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2B8-12B5-4D2E-B83A-744A3622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A74-BBD5-4941-A569-34F0307E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02C-A358-428A-8B1A-EB725494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901-B94C-461A-9CF0-C3870BC6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DE1-9244-4E4F-9D61-30FC5B02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9B7-D761-4D22-83C3-A6946FF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0941-F38A-444E-9172-5EADB9C0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8D4-2F3D-45B7-8393-D5524089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852-47EA-43DE-A919-3FFA9FD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6110-33F6-4A8D-8234-C7101A4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B38-AF84-45CA-8F4A-2D88C03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27B-0C50-431F-A73C-ED23D04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D137-2FFC-47BE-8187-07A328D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78FB-B6FD-47A5-AEE1-C4233F2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355-8E86-4CCB-844E-C2659BE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C83C-56B5-4441-A607-85FCBC76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D75-C145-413A-9A12-194A982D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452-B42E-4B82-A7EB-13CF3484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FE2-09AD-4406-9B0F-941000F5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10B-C055-4523-9630-5D3E1E0A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EC8-0561-481A-8E78-4A5E051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A71-74EB-4C81-9FC9-84A2A5D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2AA-E78F-4823-8EDB-A78DA9B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9FA-0630-40F5-BD53-8A195AA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38A4-7D11-4FA7-89A3-B28F2B30201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799-06DE-4C72-9875-B443C4E571D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03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2060640"/>
            <a:ext cx="6400800" cy="93168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滑县政府采购评标实务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3644640"/>
            <a:ext cx="5975640" cy="2330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河南财经政法大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工程管理与房地产学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陈  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83833995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404640"/>
            <a:ext cx="7416720" cy="1873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四部分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评审时易出现的问题探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696080" cy="4032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一、评审专家评审依据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二、关于废标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三、有效投标供应商家数计算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四、实质性响应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五、投标报价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六、联合体投标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七、如何提高评标效率问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6870960" cy="915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前   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488000" cy="2448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评标环节的重要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评标是政府采购最为核心的环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评审专家“位高权重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4360" y="764640"/>
            <a:ext cx="6870600" cy="987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内 容 提 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993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一部分  评标专家权利义务和应遵守的纪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二部分  开标及评标基本程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三部分 采购项目评审实际操做和应注意的问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第四部分 评审时易出现的问题探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848360" cy="1420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一部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评标专家权利义务和应遵守的纪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852280"/>
            <a:ext cx="7696080" cy="2592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第一节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评标专家权利义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一、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评标专家权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二、评标专家义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1563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一部分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评标专家权利义务和应遵守的纪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925360"/>
            <a:ext cx="7696440" cy="1800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二节   评标专家应遵守的纪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7344000" cy="1709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二部分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开标及评标基本程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3286080"/>
            <a:ext cx="7696440" cy="2392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、开标程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二、评标程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2000" cy="1944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三部分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采购项目评审实际操作和应注意的问题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696440" cy="1944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政府采购评审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五种采购方式实际操作程序和应注意的问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199280" cy="626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第一节  政府采购评审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目前政府采购评审方法有三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最低评标价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综合评分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性价比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135640" cy="1058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二节 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五种采购方式实际操作程序和应注意的问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目前政府采购方式有五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公开招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邀请招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竞争性谈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询价采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单一来源采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34:38Z</dcterms:created>
  <dc:creator>微软用户</dc:creator>
  <dc:description/>
  <cp:keywords/>
  <dc:language>en-US</dc:language>
  <cp:lastModifiedBy>滑县公共资源交易中心:王统钊</cp:lastModifiedBy>
  <dcterms:modified xsi:type="dcterms:W3CDTF">2014-10-22T06:32:43Z</dcterms:modified>
  <cp:revision>2</cp:revision>
  <dc:subject/>
  <dc:title>汤阴县政府采购评标实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